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2C0-1866-48C0-B373-D9DA3534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D24-485D-45C4-A63E-577EF7F1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17C-D268-4296-9E9F-E597F700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2F2-6A06-4F88-9F5D-30675E61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7FC1-7114-431F-8E57-0ED9BC1E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DA7B-7D21-4A71-9211-16294372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22F2-6CAD-49B2-B24D-4ED5C401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8BC9-8E37-4069-8414-FD169D10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B006-317E-474E-BFC5-9A878DB4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B5C7-2835-4DD0-8380-620860BC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8346-E063-40E7-B1C9-C66C4D33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12B-E84D-4417-B147-A5CC084A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324F-4B0F-473E-A7E2-120D2BD7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0DAE-354C-4670-9EA8-A1C14F72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3561-D3EF-4AFB-89B0-2EEEDA36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05E3-8F2D-42CD-A623-99449D18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3A72-5F8A-4D07-857A-EE60CB91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8134C-9311-478A-8F21-BEA99ECB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A4157-3AA2-4570-AC65-B0195EAD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5949B-F713-4C0B-8A49-BC9CDA09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67739-5B55-4AB4-B64F-EFF4A01B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67291-2C1F-44CD-B39B-20AE3C99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CC2-51F0-4E0F-904E-5BF31CA1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4DE83-7A33-4944-8EB3-A6D70CB5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207F9-98E7-49AF-915A-D6B26551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BB2FE-D6FE-4E81-82A6-48CB24D2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5D8B6-84F9-4CEC-87A5-CFDD86A2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A167E-8EE3-4B00-8EDE-DA974816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95CD9-9B22-43ED-8D02-E2793F59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09A34-2AB0-4923-A2E2-358A230B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2B5AC-8FE2-49B3-8443-5BD41583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13748-AA9A-478B-987D-982045A1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D1DE3-22BE-4761-AAD0-738B1C83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2E7-A06C-424A-AFEF-00D05349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BBC916-485D-4502-B3BE-DE697C54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F56878-2273-4E84-B3FA-969A64E3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CC79C-EDE1-4C3A-A6DC-293F2A51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CE014-3E16-4EBF-800C-24B9126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DE111-9B9E-4EE1-8643-2F1E6CA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246B4-AC05-43E5-9252-370D88D5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2FB28-6306-4147-B752-2D5B4BF8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0B4F0-436F-4DE6-ADF8-53871338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92C73-3329-4962-870A-A2A29160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7CE90A-1EFA-4451-9F13-AB5F2529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A76-F384-4C66-A815-B3467C85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838587-200A-4E23-BC41-131D2CF4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4C7DA-6324-42F6-8EC1-A5B7F826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1D7D9-825B-42CE-BFE3-53E2ECD7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EBE94-0F6E-44C2-9829-622DC014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3D2B3-F67C-44B3-BEE0-5FEF3E65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C7EDC-D6B3-4050-B3B3-A7AAE969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6130A-137A-46D5-B324-9C77847D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7142A-D934-4E6D-A49F-97FC59E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5FC30-B928-417F-AA84-B40B9E3E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4B134-0FD8-44F2-852D-0DF9FD08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41C-966F-4DBA-ACDE-5B6044C8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6F5AC-08D5-4174-97EC-C848940F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44A6C-4460-4CED-A632-3EBC3D1C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7CA79-4FC6-4469-A769-508F6A6D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EC6A3-1C98-4DE9-AFBB-3E7C9804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B8F58-D851-4F0D-A5BF-D2162D59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507C0-1CAE-4527-BFED-52397962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03346-14C0-4D9B-B8B7-FD47FF02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FDCC1-E977-4E80-BEDF-74A1DE21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B8658-2F9D-42F7-BFAC-5947009D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7C3CD-BDB6-4931-BEE9-5219F478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BEE-35E2-489F-B60A-1FF7ADDF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1FD99-DC05-4ADE-85D8-8A5845A4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57DD2-CB44-4328-93D0-2036FB08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A6E18-C08A-42FA-9EE5-082B8DA9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0022A-2E7A-48B0-A75E-A061B68E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4A6D8-1CA4-4BEC-B5D2-66B89806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79993-A75A-4424-BB8F-64FDABE5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8FC14C-FBEE-4A6F-894F-D4F321B1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427383-FF70-4A0F-986B-32AAAE99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5AD9D-05FC-4BE0-AA90-921240E7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B4D15-7CEC-435D-B19C-7E1C6E6B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DEB-E8CF-4D87-924B-4FC883BF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07C35-A7BB-416E-BDEF-DCFB25C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BC38F-849F-449D-850B-6B706B97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1781E7-6D79-4DE4-8A37-2E3D4FE3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E2E621-559E-4BC0-8814-C63CFE41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F4364A-95FB-402A-8DDC-1C608202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30C4B-C7DB-4FD0-AE95-4161EF3A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DE4E2-2AF5-4D26-979C-B9D8B573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5B215-32C5-440E-BCF1-FBAC1FD9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D868D-093D-4EC4-B3E2-FE434479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70BCA-3C84-4506-9992-A1182E4D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79F-9675-4C5E-98BD-5FFADC53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7A2F7-0901-4D65-8562-568AF674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D5411-2940-4FAE-A50B-EFD68725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7563A-9721-4FC4-B998-FC1EC092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CDDE0-5173-4E43-B968-9AA9C5DF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328FB-53A4-4466-AFFB-DA867627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A1664-44F0-4E56-B849-E07A811A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6EE6F-FB71-44A0-9D40-8AE62682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2B05-C529-49D0-AE0D-E5ABDDCE88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9C33-7179-46CF-B46D-92FE031241FA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D24E-3E92-4F6A-B0BC-E8E3F330CED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9E60-E8A3-4B5E-BDF0-A2CF119D6A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C5BD-24F7-4483-BD74-32A1FD0828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FC0A-687E-4A1A-9D05-B7BC2D6B3BA4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DD79-869D-43D5-89F9-3412E5AE295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A46D-BC33-4EE3-B4AC-DEC05D745F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bddc3"/>
                </a:solidFill>
                <a:latin typeface="BernhardModern"/>
                <a:ea typeface="Arabic Typesetting"/>
              </a:rPr>
              <a:t>MEG 101</a:t>
            </a:r>
            <a:endParaRPr b="0" lang="en-US" sz="6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An introduction to Meaghan Kountze!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103_2542.JPG"/>
          <p:cNvPicPr/>
          <p:nvPr/>
        </p:nvPicPr>
        <p:blipFill>
          <a:blip r:embed="rId1"/>
          <a:stretch/>
        </p:blipFill>
        <p:spPr>
          <a:xfrm>
            <a:off x="96840" y="36360"/>
            <a:ext cx="3268800" cy="4754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Me.jpg"/>
          <p:cNvPicPr/>
          <p:nvPr/>
        </p:nvPicPr>
        <p:blipFill>
          <a:blip r:embed="rId2"/>
          <a:stretch/>
        </p:blipFill>
        <p:spPr>
          <a:xfrm>
            <a:off x="6102360" y="-19080"/>
            <a:ext cx="2876400" cy="4883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Me again.jpg"/>
          <p:cNvPicPr/>
          <p:nvPr/>
        </p:nvPicPr>
        <p:blipFill>
          <a:blip r:embed="rId3"/>
          <a:stretch/>
        </p:blipFill>
        <p:spPr>
          <a:xfrm>
            <a:off x="2901960" y="622440"/>
            <a:ext cx="360216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ents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TextBox 3"/>
          <p:cNvSpPr/>
          <p:nvPr/>
        </p:nvSpPr>
        <p:spPr>
          <a:xfrm>
            <a:off x="609480" y="21337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members of my immediate fami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ileston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y goals for the futur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1143000" y="45720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17c36"/>
                </a:solidFill>
                <a:latin typeface="Tw Cen MT"/>
              </a:rPr>
              <a:t>My Family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8" name="Picture 2" descr="Mom.jpg"/>
          <p:cNvPicPr/>
          <p:nvPr/>
        </p:nvPicPr>
        <p:blipFill>
          <a:blip r:embed="rId1"/>
          <a:stretch/>
        </p:blipFill>
        <p:spPr>
          <a:xfrm>
            <a:off x="609480" y="1523880"/>
            <a:ext cx="1981440" cy="26416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3"/>
          <p:cNvSpPr/>
          <p:nvPr/>
        </p:nvSpPr>
        <p:spPr>
          <a:xfrm>
            <a:off x="533520" y="4419720"/>
            <a:ext cx="1904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y mother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 retired police detective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4" descr="Manny.jpg"/>
          <p:cNvPicPr/>
          <p:nvPr/>
        </p:nvPicPr>
        <p:blipFill>
          <a:blip r:embed="rId2"/>
          <a:stretch/>
        </p:blipFill>
        <p:spPr>
          <a:xfrm>
            <a:off x="4191120" y="1676520"/>
            <a:ext cx="1981080" cy="33559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6553080" y="1828800"/>
            <a:ext cx="1981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y husban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y chosen life partner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6324480" y="3581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…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..channeling Clark Kent!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533520" y="5486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ithout her I would be noth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685800" y="5791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.(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literally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TextBox 9"/>
          <p:cNvSpPr/>
          <p:nvPr/>
        </p:nvSpPr>
        <p:spPr>
          <a:xfrm>
            <a:off x="6553080" y="3048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or better or worse!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y Brother and Sist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ll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02884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s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Picture 4" descr="nikon feb 26 pt 2 017.JPG"/>
          <p:cNvPicPr/>
          <p:nvPr/>
        </p:nvPicPr>
        <p:blipFill>
          <a:blip r:embed="rId1"/>
          <a:stretch/>
        </p:blipFill>
        <p:spPr>
          <a:xfrm>
            <a:off x="380880" y="2286000"/>
            <a:ext cx="2819520" cy="4211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Sam.jpg"/>
          <p:cNvPicPr/>
          <p:nvPr/>
        </p:nvPicPr>
        <p:blipFill>
          <a:blip r:embed="rId2"/>
          <a:stretch/>
        </p:blipFill>
        <p:spPr>
          <a:xfrm>
            <a:off x="4952880" y="2362320"/>
            <a:ext cx="35578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6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6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y Two Daughters,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25744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bbe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4419720" y="38088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oth 8 months old!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Picture 5" descr="Molly.jpg"/>
          <p:cNvPicPr/>
          <p:nvPr/>
        </p:nvPicPr>
        <p:blipFill>
          <a:blip r:embed="rId1"/>
          <a:stretch/>
        </p:blipFill>
        <p:spPr>
          <a:xfrm>
            <a:off x="304920" y="2590920"/>
            <a:ext cx="4344840" cy="2909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Abbey.jpg"/>
          <p:cNvPicPr/>
          <p:nvPr/>
        </p:nvPicPr>
        <p:blipFill>
          <a:blip r:embed="rId2"/>
          <a:stretch/>
        </p:blipFill>
        <p:spPr>
          <a:xfrm>
            <a:off x="5029200" y="2286000"/>
            <a:ext cx="3801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6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6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6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d joining us around June 5, 2012…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8" name="Content Placeholder 4" descr="ultrasound image.jpg"/>
          <p:cNvPicPr/>
          <p:nvPr/>
        </p:nvPicPr>
        <p:blipFill>
          <a:blip r:embed="rId1"/>
          <a:stretch/>
        </p:blipFill>
        <p:spPr>
          <a:xfrm>
            <a:off x="1746360" y="1600200"/>
            <a:ext cx="5187960" cy="3962520"/>
          </a:xfrm>
          <a:prstGeom prst="rect">
            <a:avLst/>
          </a:prstGeom>
          <a:ln w="0">
            <a:noFill/>
          </a:ln>
        </p:spPr>
      </p:pic>
      <p:sp>
        <p:nvSpPr>
          <p:cNvPr id="379" name="TextBox 5"/>
          <p:cNvSpPr/>
          <p:nvPr/>
        </p:nvSpPr>
        <p:spPr>
          <a:xfrm>
            <a:off x="0" y="56386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answer to my husbands prayers…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1905120" y="61722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act: Our household has a female to male ratio of 3:1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80880" y="2742840"/>
            <a:ext cx="8113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March 1, 2005 ~ the day I met my husba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December 31, 2007 ~ our wedding anniversa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February 2010 ~ the month we paid off our c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Memorable Da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0" y="27428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June 5, 2012 ~ Approximate birth date of my s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July-July 2012 ~ My husband and I should be closing on our first ho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August 8, 2012 ~ Completion of Bachelor’s Degre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September 2012 ~ Anticipated start of my Master’s Degre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Dates to look forward to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0:11:04Z</dcterms:created>
  <dc:creator>Meg and Manny</dc:creator>
  <dc:description/>
  <dc:language>en-US</dc:language>
  <cp:lastModifiedBy>Meg and Manny</cp:lastModifiedBy>
  <dcterms:modified xsi:type="dcterms:W3CDTF">2012-03-25T05:03:41Z</dcterms:modified>
  <cp:revision>69</cp:revision>
  <dc:subject/>
  <dc:title>Slide 1</dc:title>
</cp:coreProperties>
</file>